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C40-01EB-4A38-BA50-B1874257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75B-5199-46E0-8CFE-AE23820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A88-5B4C-4E4D-B089-3A03D66D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487-1AF9-4915-A7C4-5A481148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7BD-1294-4553-B908-EABDE69A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A33-390E-4682-9062-D32D313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5AF-8575-412E-92D1-1839E98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6CF-1C48-40D2-8BEA-1443878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6F5-19DE-41DB-8531-FB30956B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819-A09C-43A4-938C-3B34AA8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09A-B48E-4C99-BF36-E1593368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865-753B-4664-BC67-8A45303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9314-3FE3-4CEA-8D64-ACD031179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400640" y="334800"/>
            <a:ext cx="342720" cy="9208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908000" y="320760"/>
            <a:ext cx="677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Не в количестве знаний заключается образование, а в полном понимани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и искусном применении всего того, что зна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Георг Гег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7743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Прогрессии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14240" y="107136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9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звестно, что бактерии размножаются делением: одна бактерия делится на две; каждая из этих двух в свою очередь тоже делится на две, и получаются четыре бактерии; из этих четырех в результате деления получаются восемь бактерий и т. д. Результат каждого удвоения будем называть покол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93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A022-69D4-48C5-B9B8-9F5A6ADB2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Группа 7"/>
          <p:cNvGrpSpPr/>
          <p:nvPr/>
        </p:nvGrpSpPr>
        <p:grpSpPr>
          <a:xfrm>
            <a:off x="1143000" y="2714760"/>
            <a:ext cx="7786800" cy="4134240"/>
            <a:chOff x="1143000" y="2714760"/>
            <a:chExt cx="7786800" cy="4134240"/>
          </a:xfrm>
        </p:grpSpPr>
        <p:sp>
          <p:nvSpPr>
            <p:cNvPr id="81" name="Rectangle 4"/>
            <p:cNvSpPr/>
            <p:nvPr/>
          </p:nvSpPr>
          <p:spPr>
            <a:xfrm>
              <a:off x="1143000" y="2714760"/>
              <a:ext cx="3786120" cy="3786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1214280" y="2841480"/>
              <a:ext cx="3672000" cy="40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Способность к размножению у бактерий настолько велика, что если бы они не гибли от разных причин, а беспрерывно размножались, то за трое суток общая масса потомства одной только бактерии могла бы составить 7500 тонн. Таким громадным количеством бактерий можно было бы заполнить около 375 железнодорожных вагонов.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7" descr=""/>
            <p:cNvPicPr/>
            <p:nvPr/>
          </p:nvPicPr>
          <p:blipFill>
            <a:blip r:embed="rId1"/>
            <a:stretch/>
          </p:blipFill>
          <p:spPr>
            <a:xfrm>
              <a:off x="5214960" y="2714760"/>
              <a:ext cx="3714840" cy="3785760"/>
            </a:xfrm>
            <a:prstGeom prst="rect">
              <a:avLst/>
            </a:prstGeom>
            <a:ln w="28440">
              <a:solidFill>
                <a:srgbClr val="000000"/>
              </a:solidFill>
              <a:round/>
            </a:ln>
          </p:spPr>
        </p:pic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115920"/>
            <a:ext cx="7786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тенсивность размножения бактерий использую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50F-F5BA-4509-9F04-1A2F508AB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Группа 12"/>
          <p:cNvGrpSpPr/>
          <p:nvPr/>
        </p:nvGrpSpPr>
        <p:grpSpPr>
          <a:xfrm>
            <a:off x="357120" y="1571760"/>
            <a:ext cx="3857760" cy="2214360"/>
            <a:chOff x="357120" y="1571760"/>
            <a:chExt cx="3857760" cy="2214360"/>
          </a:xfrm>
        </p:grpSpPr>
        <p:sp>
          <p:nvSpPr>
            <p:cNvPr id="87" name="Прямоугольник 11"/>
            <p:cNvSpPr/>
            <p:nvPr/>
          </p:nvSpPr>
          <p:spPr>
            <a:xfrm>
              <a:off x="357120" y="1571760"/>
              <a:ext cx="3857760" cy="22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bb9"/>
                  </a:solidFill>
                  <a:latin typeface="Calibri"/>
                </a:rPr>
                <a:t>В пищево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70bb9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070bb9"/>
                  </a:solidFill>
                  <a:latin typeface="Calibri"/>
                </a:rPr>
                <a:t>промышленност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4" descr=""/>
            <p:cNvPicPr/>
            <p:nvPr/>
          </p:nvPicPr>
          <p:blipFill>
            <a:blip r:embed="rId1"/>
            <a:stretch/>
          </p:blipFill>
          <p:spPr>
            <a:xfrm>
              <a:off x="357120" y="1571760"/>
              <a:ext cx="1712880" cy="21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17"/>
          <p:cNvGrpSpPr/>
          <p:nvPr/>
        </p:nvGrpSpPr>
        <p:grpSpPr>
          <a:xfrm>
            <a:off x="4786200" y="1571760"/>
            <a:ext cx="3881520" cy="2214360"/>
            <a:chOff x="4786200" y="1571760"/>
            <a:chExt cx="3881520" cy="2214360"/>
          </a:xfrm>
        </p:grpSpPr>
        <p:sp>
          <p:nvSpPr>
            <p:cNvPr id="90" name="Прямоугольник 16"/>
            <p:cNvSpPr/>
            <p:nvPr/>
          </p:nvSpPr>
          <p:spPr>
            <a:xfrm>
              <a:off x="4786200" y="1571760"/>
              <a:ext cx="3857760" cy="22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70bb9"/>
                  </a:solidFill>
                  <a:latin typeface="Calibri"/>
                </a:rPr>
                <a:t>В фармацевтическо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70bb9"/>
                  </a:solidFill>
                  <a:latin typeface="Calibri"/>
                </a:rPr>
                <a:t>промышленности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9" descr=""/>
            <p:cNvPicPr/>
            <p:nvPr/>
          </p:nvPicPr>
          <p:blipFill>
            <a:blip r:embed="rId2"/>
            <a:stretch/>
          </p:blipFill>
          <p:spPr>
            <a:xfrm>
              <a:off x="6929280" y="1571760"/>
              <a:ext cx="173844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Группа 22"/>
          <p:cNvGrpSpPr/>
          <p:nvPr/>
        </p:nvGrpSpPr>
        <p:grpSpPr>
          <a:xfrm>
            <a:off x="4786200" y="4143240"/>
            <a:ext cx="3882960" cy="2214720"/>
            <a:chOff x="4786200" y="4143240"/>
            <a:chExt cx="3882960" cy="2214720"/>
          </a:xfrm>
        </p:grpSpPr>
        <p:sp>
          <p:nvSpPr>
            <p:cNvPr id="93" name="Прямоугольник 21"/>
            <p:cNvSpPr/>
            <p:nvPr/>
          </p:nvSpPr>
          <p:spPr>
            <a:xfrm>
              <a:off x="4786200" y="4143240"/>
              <a:ext cx="3857760" cy="221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70bb9"/>
                  </a:solidFill>
                  <a:latin typeface="Calibri"/>
                </a:rPr>
                <a:t>В коммуналь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70bb9"/>
                  </a:solidFill>
                  <a:latin typeface="Calibri"/>
                </a:rPr>
                <a:t>хозяйстве 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70bb9"/>
                  </a:solidFill>
                  <a:latin typeface="Calibri"/>
                </a:rPr>
                <a:t>природоохр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70bb9"/>
                  </a:solidFill>
                  <a:latin typeface="Calibri"/>
                </a:rPr>
                <a:t>мероприятия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0" descr=""/>
            <p:cNvPicPr/>
            <p:nvPr/>
          </p:nvPicPr>
          <p:blipFill>
            <a:blip r:embed="rId3"/>
            <a:stretch/>
          </p:blipFill>
          <p:spPr>
            <a:xfrm>
              <a:off x="6929280" y="4143240"/>
              <a:ext cx="173988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Группа 20"/>
          <p:cNvGrpSpPr/>
          <p:nvPr/>
        </p:nvGrpSpPr>
        <p:grpSpPr>
          <a:xfrm>
            <a:off x="357120" y="4143240"/>
            <a:ext cx="3857760" cy="2214720"/>
            <a:chOff x="357120" y="4143240"/>
            <a:chExt cx="3857760" cy="2214720"/>
          </a:xfrm>
        </p:grpSpPr>
        <p:sp>
          <p:nvSpPr>
            <p:cNvPr id="96" name="Прямоугольник 19"/>
            <p:cNvSpPr/>
            <p:nvPr/>
          </p:nvSpPr>
          <p:spPr>
            <a:xfrm>
              <a:off x="357120" y="4143240"/>
              <a:ext cx="3857760" cy="221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bb9"/>
                  </a:solidFill>
                  <a:latin typeface="Calibri"/>
                </a:rPr>
                <a:t>В сельско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70bb9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070bb9"/>
                  </a:solidFill>
                  <a:latin typeface="Calibri"/>
                </a:rPr>
                <a:t>хозяйстве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5" descr=""/>
            <p:cNvPicPr/>
            <p:nvPr/>
          </p:nvPicPr>
          <p:blipFill>
            <a:blip r:embed="rId4"/>
            <a:stretch/>
          </p:blipFill>
          <p:spPr>
            <a:xfrm>
              <a:off x="357120" y="4143240"/>
              <a:ext cx="1716120" cy="21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fs00.infourok.ru/images/doc/108/127731/640/img18.jpg"/>
          <p:cNvPicPr/>
          <p:nvPr/>
        </p:nvPicPr>
        <p:blipFill>
          <a:blip r:embed="rId1"/>
          <a:stretch/>
        </p:blipFill>
        <p:spPr>
          <a:xfrm>
            <a:off x="160200" y="189000"/>
            <a:ext cx="4988160" cy="374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lusana.ru/files/5670/573/10.jpg"/>
          <p:cNvPicPr/>
          <p:nvPr/>
        </p:nvPicPr>
        <p:blipFill>
          <a:blip r:embed="rId2"/>
          <a:stretch/>
        </p:blipFill>
        <p:spPr>
          <a:xfrm>
            <a:off x="3975120" y="2852640"/>
            <a:ext cx="516888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5280" y="549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Имеется радиоактивное вещество массой 256г, масса которого за сутки уменьшается вдвое. Какова станет масса вещества на вторые сутки? На третьи? На пяты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74760" y="220500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Известно, что бактерия в питательной среде через каждые полчаса делится на две. Сколько бактерий может образоваться из одной бактерии за 10 часов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55680" y="3213000"/>
            <a:ext cx="72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Предприниматель взял в банке кредит на сумму 500 000 рублей под 10% годовых. Какую сумму должен вернуть предприниматель банку через 3 г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68360" y="450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Мощности пяти электромоторов составляют возрастающую геометрическую прогрессию. Мощность первого 5 кВт, а третьего 9,8 кВт. Рассчитать мощности остальных электромоторов (ответ дать в кВт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503280" y="476280"/>
            <a:ext cx="8064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Дано: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n)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метрическая прогресс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56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0,5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2-?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?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= 256х 0,5 = 128, 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 128х 0,5 = 64, b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5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 256х 0,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=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256; 128;  16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95280" y="26370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ано: (bn) – геометрическая прогрессия b1 = 500 000 q = 1,1 b4 –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b4 = b1 · q3 b4 = 500 000 · (1,1)3= 500 000 · 1,33= 665.000 (p) То есть должен через 3 года 665.000 (p)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65.000 –500000 =165000 р. -перепл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 : 165000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95280" y="4221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ано: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n)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метрическая прогрессия 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?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?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? q=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7:5 = 1,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9,8 ·1,4 = 13,7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13,72 ·1,4 = 19,2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 7 кВт; 13,72 кВт; 19,208 кВ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3" descr=""/>
          <p:cNvPicPr/>
          <p:nvPr/>
        </p:nvPicPr>
        <p:blipFill>
          <a:blip r:embed="rId1"/>
          <a:stretch/>
        </p:blipFill>
        <p:spPr>
          <a:xfrm>
            <a:off x="341280" y="1371600"/>
            <a:ext cx="8101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141560" y="692280"/>
            <a:ext cx="68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Последовательности заданы несколькими первыми членами. Одна из них – геометрическая прогрессия. Укажите 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, 5, 8, 11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4, -8, -16, -32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0, 90, 80, 70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, 5, 10, 17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 Найдите знаменатель  геометрической прогрессии  1;5;25;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 Найдите четвертый член  геометрической прогрессии 2; 4; 8;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 Найдите b5, если b1=3,  q=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1=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=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=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йдите сумму членов прогре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Прямоугольник 2" descr=""/>
          <p:cNvPicPr/>
          <p:nvPr/>
        </p:nvPicPr>
        <p:blipFill>
          <a:blip r:embed="rId1"/>
          <a:stretch/>
        </p:blipFill>
        <p:spPr>
          <a:xfrm>
            <a:off x="3413160" y="-171360"/>
            <a:ext cx="202392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3200400"/>
            <a:ext cx="8028000" cy="858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409040" y="3832200"/>
            <a:ext cx="87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567680" y="4076640"/>
            <a:ext cx="7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- «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- «4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- «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620640"/>
          <a:ext cx="8229600" cy="415152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1919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еделение геометрической 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менатель  геометрической 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116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ула n-го члена   геометрической  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44" name="Прямоугольник 3"/>
          <p:cNvSpPr/>
          <p:nvPr/>
        </p:nvSpPr>
        <p:spPr>
          <a:xfrm>
            <a:off x="2347560" y="4797360"/>
            <a:ext cx="23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Формула - знаменатель прогрессии равен"/>
          <p:cNvPicPr/>
          <p:nvPr/>
        </p:nvPicPr>
        <p:blipFill>
          <a:blip r:embed="rId1"/>
          <a:stretch/>
        </p:blipFill>
        <p:spPr>
          <a:xfrm>
            <a:off x="5940360" y="2565360"/>
            <a:ext cx="1440000" cy="909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071600" y="5589720"/>
            <a:ext cx="23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5411880" y="836640"/>
            <a:ext cx="285840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n+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 =bn · q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де bn ≠ 0, q ≠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6" descr=""/>
          <p:cNvPicPr/>
          <p:nvPr/>
        </p:nvPicPr>
        <p:blipFill>
          <a:blip r:embed="rId2"/>
          <a:stretch/>
        </p:blipFill>
        <p:spPr>
          <a:xfrm>
            <a:off x="5376960" y="3700440"/>
            <a:ext cx="2566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5" descr=""/>
          <p:cNvPicPr/>
          <p:nvPr/>
        </p:nvPicPr>
        <p:blipFill>
          <a:blip r:embed="rId1"/>
          <a:stretch/>
        </p:blipFill>
        <p:spPr>
          <a:xfrm>
            <a:off x="3524400" y="92160"/>
            <a:ext cx="2022480" cy="145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824120" y="981000"/>
          <a:ext cx="6095880" cy="22240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" name="Прямоугольник 8" descr=""/>
          <p:cNvPicPr/>
          <p:nvPr/>
        </p:nvPicPr>
        <p:blipFill>
          <a:blip r:embed="rId2"/>
          <a:stretch/>
        </p:blipFill>
        <p:spPr>
          <a:xfrm>
            <a:off x="1030320" y="3114720"/>
            <a:ext cx="75042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351080" y="4224240"/>
          <a:ext cx="6095880" cy="175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авильно выполненных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Легенда о шахматах.mp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92160"/>
            <a:ext cx="8077320" cy="1455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90520" y="12812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Определите количество зерен на каждой клет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Попытайтесь вычислить сумму, которую получит С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делать 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File:Second Half of the Chessboard.png"/>
          <p:cNvPicPr/>
          <p:nvPr/>
        </p:nvPicPr>
        <p:blipFill>
          <a:blip r:embed="rId2"/>
          <a:srcRect l="4839" t="0" r="4839" b="0"/>
          <a:stretch/>
        </p:blipFill>
        <p:spPr>
          <a:xfrm>
            <a:off x="5003640" y="2637000"/>
            <a:ext cx="40006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Какую закономерность вы увидели , выполняя подсчет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27160" y="155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Какую последовательность чисел можно состави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6381000" y="1557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,2, 4,8,16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67120" y="299736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О какой прогрессии идет реч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52360" y="36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Определите первый член, знаменатель и количество чл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6383160" y="3782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1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2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47760" y="4772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 Рациональный   способ подсчета вы примени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1268280" y="165240"/>
            <a:ext cx="6723360" cy="3979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835200"/>
            <a:ext cx="662652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611280" y="1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-55440"/>
            <a:ext cx="65232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021200" y="1808280"/>
            <a:ext cx="4749840" cy="164628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5" descr=""/>
          <p:cNvPicPr/>
          <p:nvPr/>
        </p:nvPicPr>
        <p:blipFill>
          <a:blip r:embed="rId3"/>
          <a:stretch/>
        </p:blipFill>
        <p:spPr>
          <a:xfrm>
            <a:off x="500040" y="3286080"/>
            <a:ext cx="3675240" cy="85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530280" cy="371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141560" y="43657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446 744 073 709 551 6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250920" y="1039680"/>
            <a:ext cx="45720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 2; 4; 8; 16; …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; n=64; q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182680" y="5221440"/>
            <a:ext cx="65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равна: 18 446 744 073 709 551 615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надцать квинтильонов четыреста сорок шесть квадрильонов семьсот сорок четыре триллиона семьдесят три биллиона семьсот девять миллионов пятьсот пятьдесят одна тысяча шестьсот пятнадцать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57400" y="284652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http://users.ntua.gr/dimour/agxivasihn/h_genealogia_ths_apaths/wheat-and-chess3.png"/>
          <p:cNvPicPr/>
          <p:nvPr/>
        </p:nvPicPr>
        <p:blipFill>
          <a:blip r:embed="rId5"/>
          <a:stretch/>
        </p:blipFill>
        <p:spPr>
          <a:xfrm>
            <a:off x="6659640" y="109440"/>
            <a:ext cx="22287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15:42:50Z</dcterms:created>
  <dc:creator>monster</dc:creator>
  <dc:description/>
  <dc:language>en-US</dc:language>
  <cp:lastModifiedBy>monster</cp:lastModifiedBy>
  <dcterms:modified xsi:type="dcterms:W3CDTF">2019-02-04T15:52:39Z</dcterms:modified>
  <cp:revision>16</cp:revision>
  <dc:subject/>
  <dc:title>Презентация PowerPoint</dc:title>
</cp:coreProperties>
</file>